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816-DC7B-49D6-B360-8D6284C0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13E-5B89-4304-9300-12E74E42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3DB-7408-442A-B7E3-D6CFD7A7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F48-784F-4A43-B9CF-9F0C9B23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DBD6-99BA-4AF5-A2D6-E31B90E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3A60-F6B3-43EF-827E-B26405E2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267-A751-4E51-988E-5BCC85E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FB2-31B0-495B-9851-34E55A1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2717-CE99-42D9-81D8-58A7C48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2A6F-6319-4366-B39E-4B166872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E688-DE62-40F3-B2DC-1271E5F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E67-9C9A-47B8-BE9B-AE704C9E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5B9B-709D-4EAD-BD62-53F32EA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3AA6-51DD-457D-B350-3BA225E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0836-9953-418D-A1A9-04D7B22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2B42-9F45-436C-BED5-3823313D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ADB4-3813-44DA-988F-D4358F83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ED6-844D-4288-A2D7-3C5A7DB2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473-3E3D-4B84-B123-61FD52B7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C84-76E0-441A-ABE5-AE94F39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377-8AAA-4380-B524-5D4CFB2D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90D-F037-4B49-B4DF-ECE7AF0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2A1-232C-417A-8164-FAA0A49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4BB-D5CD-4815-B084-A37A661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755-3D5E-412F-B392-FC0FE3334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E7C-09E1-456F-8B24-94A35312C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cilitating Successful Parent Meet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n the Parent 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 discussion for how the parent can help address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suggestions if they have n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them down the path we want them to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s P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2-3 realistic changes the student can m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the parents that ultimately it is up to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and parents can work but the child must do their 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elps to avoid laying bl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ng the Child 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the student to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at the parents and teachers are working together because they care about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as a lasting impact on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 student if they feel they can do bet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pick 2-3 areas that they can do to address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them if you have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 child to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ing the 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what each group has agreed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a time to evaluate the students, usually 2 or 3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use the student and thank the parent for co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the paren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the goal of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Johnny to do more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Johnny to improve his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Johnny to arrive to class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at it is that we think the parent will w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Accomplish the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want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ing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team member greet the parent in the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v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ll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ing the 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a po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issue at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at parents/teachers are working together for then stu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nfident that the problem area can be impr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around the circle of teachers each explaining the students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erson should start with something po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arents 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arent a turn to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y seeing at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rks well for the chi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ets them of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am Solu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strategies that the team will implement to help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how them we are working and willing to work to help their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22:59:15Z</dcterms:created>
  <dc:creator>Administrator</dc:creator>
  <dc:description/>
  <dc:language>en-US</dc:language>
  <cp:lastModifiedBy>North Rockland Schools</cp:lastModifiedBy>
  <dcterms:modified xsi:type="dcterms:W3CDTF">2008-10-07T11:47:00Z</dcterms:modified>
  <cp:revision>4</cp:revision>
  <dc:subject/>
  <dc:title>Facilitating Successful Parent Meetings</dc:title>
</cp:coreProperties>
</file>